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75D-EFA7-475B-A933-59E7DA1A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0C5-57C6-4BC1-AA5F-332AA953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CEB-5472-4105-9D15-E8F13728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9CB-A479-4758-9706-789A4F99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6042-BF3B-4F3B-B89A-B044BAC7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681D-E468-4657-8839-DF22D54D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6FE3-2449-4FBB-97A3-1242DD3F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673C-10AE-4554-B665-8C716458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558E-74CD-42E1-B936-417774E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9947-EF1E-494D-B837-3EDF9119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A66B-7E6A-465C-BEA8-DE8F292A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7A5-8AEC-43B3-9BD3-5950499F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69D-C564-4DC5-B91A-F9889A83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E001-49EA-4989-BDA4-ABF76D4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7836-7D24-4D99-B343-027B4CA5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9B6E-CF5F-4AB0-8316-666AA035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472B-41F1-451C-8E92-49FD0A7B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64BDB-C137-4BFB-B5DA-0E40CD89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95546-C218-4C93-B9C8-20789558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F6AE3-C252-4FDB-BC76-DE63E901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17E5C-DF17-46F2-A8F5-29370CC0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8B303-C37E-4AF8-A248-C1634239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581-AFC2-423F-AE70-8E80231F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82BC4-41EA-4425-8313-659AD653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1CE9F-CE74-41BC-ABC0-87D3733D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4AE43-6F73-46B8-87EC-61BBA68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67C4B-E449-4877-92DC-2966B15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5EAED-7DE0-4B3F-93C2-FC919BCB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9EB05-BA8A-411B-BC99-E06381A3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6BE6E-4FD5-46CD-BCF2-0B9C3F20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B7EFF-CD13-4BBD-8D5D-338E543A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90B4-B0D1-43C1-9C7C-A3216EEE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364ED-808B-474E-B4EE-EDD169AD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193-33D3-410D-818B-A2825CD8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7094-85D1-4292-8FA3-C98B8821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408E6-39D6-49F3-AB10-02B93C60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37CD-2D02-440D-B1DF-1C764863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E0671-D321-4B2A-A7BC-310274F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4B9F5-1929-4CF0-BD99-11A035E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72C2-724C-49DD-9AD8-5B42AF01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152F9-7E81-4B5B-81F8-2EF73A13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4EF3-7A50-41BB-96D9-BFAC644C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8E54-CA2A-4767-BBDA-28951179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8AF-E16E-4CA2-A7E3-D59597B1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303-244D-4D22-AD68-EB268BFB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D59-34FE-437A-88F7-2D981B35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D97-718B-4614-9B05-1E32C57F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287-3940-4EF9-A7EF-316F5602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4246-A248-43E4-AA38-30924E9A5CB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010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C485-FD54-4D1B-9C09-56453A318BA1}" type="slidenum">
              <a:rPr b="0" lang="en-US" sz="1200" spc="-1" strike="noStrike">
                <a:solidFill>
                  <a:srgbClr val="ad010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946D-219F-4F95-8246-7764EB7BC2F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81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F92E-73C6-4C1A-9CE8-D9FC3739CEA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101"/>
                </a:solidFill>
                <a:latin typeface="Century Gothic"/>
              </a:rPr>
              <a:t>China &amp; Japan</a:t>
            </a:r>
            <a:endParaRPr b="0" lang="en-US" sz="36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242"/>
              </a:solidFill>
              <a:latin typeface="Century Gothic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066680" y="3102120"/>
            <a:ext cx="2837160" cy="3755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4974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Empress Cixi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33160" y="9903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The Qing Dowager Empress, ruler of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she ruled while baby Emperors were “on the throne”; was committed to tradition but supported some reforms (Self-Strengthening) but not a lo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62-1908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many rebellions agnst her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= she finally agreed to reform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gov’t = constitutional monarchy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= end to China’s Empire!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5865840" y="2666880"/>
            <a:ext cx="327816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After the rebellions &amp; during her rule, foreigners took advantage of this…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External Probs..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2. Foreign power took advantage of internal probs &amp; rebellions = they attacked China &amp; got : Sphere of Influence &amp; Open Door policy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Sphere of Influence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o: Europeans in China &amp; Japanese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at: a strong foothold in China where a foreign nation controlled trade &amp; investments in a given area inside China (not China)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en: Late 1800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y: This gave increasing economic power to foreigners in China- NOT the Chinese; this worried Americans = Open Door policy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Open Door policy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American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a policy that “opened” the doors of China’s economy to merchants of all nations to keep the US safe from being shut out by other nations economically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99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protected US trading rights in China; protected China from being colonized; but China was now under foreign control economically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All of this increasing discontent… led to…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Internal Probs (cont’d) 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5. Nationalism- Boxer Rebellion- against Empress Cixi &amp; foreigner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Boxer Rebell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Poor Chinese peasants &amp; workers aka Boxer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they formed a “Society of Righteous &amp; Harmonious Fists” agnst the Empress &amp; Foreigners -&gt; Rebelled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900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rebellion failed BUT Nationalism emerged, Chinese realized they must resist foreign intervention &amp; they wanted the gov’t more responsive to their need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Eventually, Empress Cixi “died”– some thought under mysterious circumstances…. (Hmm… wonder why?!)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= a boy Emperor came to power &amp; was killed!!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= change in government which we will talk about later… (Next chapter)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101"/>
                </a:solidFill>
                <a:latin typeface="Century Gothic"/>
              </a:rPr>
              <a:t>Japan</a:t>
            </a:r>
            <a:endParaRPr b="0" lang="en-US" sz="36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Background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hina had been resisting outside influence from the West- didn’t want the negative influences of the worldly West…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Didn’t trade w/ the West b.c. China was self-sufficien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s made the West mad and WANT IN!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o, they needed to come up with something the Chinese would buy in mass supply!!....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61600" y="60948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Like China, Japan was also isolated from the West &amp; didn’t want to trade w/ them… 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BUT Just like China, the Westerners pushed their way in!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As a result,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Japan MODERNIZED…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5567400" y="2438280"/>
            <a:ext cx="360036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auses of Modernizat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esterners forced their way into Japan to trade with them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- Treaty of Kanagawa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hogun stepped down, Emperor took control = Meiji Er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Emperor realized he had to modernize to counter the West- Adapted to Western way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Treaty of Kanagawa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Matthew Perry (USA) vs. Japanese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a treaty between the US &amp; Japan that opened 2 ports in Japan where US could take supplie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Japa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54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The US had pushed open the door in Japan = other European powers followed = foreigners were now allowed in Japa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Meiji Era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Emperor Mutsuhito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the time period of Mutsuhito’s reign that meant “enlightened rule” where he kicked out the military dictator &amp; ruled himself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Japa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67-1912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during this time, Japan modernized and became a world power that was the #1 strength in Asi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Effects of Modernizat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hanged gov’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399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- Made a Constitution &amp; legal codes similar to Europe’s- no longer military dictatorship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Improved educatio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399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- Adopted American universal public education- made all students go to school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Industrialized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399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- Railroads, factories, shipbuilding, coal produc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4. Improved military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warships &amp; well trained soldier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strongest military in Asia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5. Gained strength &amp; power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economic, military, &amp; political strength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became imperialistic – starts taking over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- could compete with the Wes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Examples of their new imperialism- they start taking over other Asian countries….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ey do this through wars…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uch as: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Russo- Japanese War 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Russians vs. Japanese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a war between the top 2 pwrs in Asia over who should control Manchuria (the area in b/n them)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Yellow Sea, coast of Machuri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904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Japan destroyed Russia’s fleet &amp; won = Japan won Machuria &amp; the #1 power in Asi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Now Japan is built up enough that they are ready for World War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hina vs. Japan in this time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42920" y="2324160"/>
          <a:ext cx="6777000" cy="4576680"/>
        </p:xfrm>
        <a:graphic>
          <a:graphicData uri="http://schemas.openxmlformats.org/drawingml/2006/table">
            <a:tbl>
              <a:tblPr/>
              <a:tblGrid>
                <a:gridCol w="2259000"/>
                <a:gridCol w="2259000"/>
                <a:gridCol w="225900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91692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mains committed to tra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ave well-established traditional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siders modernization to be nece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19124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es numerous territorial confli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ns numerous territorial conflicts = becomes an Empire bui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91692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nally accepts need for re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itially resists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rrows &amp; adapts Western ways to Modern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191240"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nts other nations spheres of influence within 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pose Western Imperi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trengthens its economic &amp; military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0101"/>
                </a:solidFill>
                <a:latin typeface="Century Gothic"/>
              </a:rPr>
              <a:t>OPIUM!!!!</a:t>
            </a:r>
            <a:endParaRPr b="0" lang="en-US" sz="36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(it’s a drug… aka addicting!) </a:t>
            </a:r>
            <a:endParaRPr b="0" lang="en-US" sz="1800" spc="-1" strike="noStrike">
              <a:solidFill>
                <a:srgbClr val="303030"/>
              </a:solidFill>
              <a:latin typeface="Century Gothic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59568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External problem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1. British smuggled in Opium to the Chinese = Chinese became addicted = irritated Chinese gov’t = WAR!!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Opium War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o: British vs. Chinese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at: a war b/n British and Chinese about the British smuggling opium into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en: 1839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y: China had outdated ships vs GB’s new updated steam ships = China loses &amp; is humiliated = GB gets extraterritorial rights (HongKong)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hile this was going on, China was experiencing a bunch in internal probs….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Internal Problem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Hunger- population grew 30% but food didn’t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Ppl were poor &amp; discouraged = more Opium drug addic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Rebellion- Taiping Rebellion, Boxer Rebell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Self- Strengthening movement- attempted reforms made ppl scared &amp; unhappy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514440" indent="-514440">
              <a:spcBef>
                <a:spcPts val="550"/>
              </a:spcBef>
              <a:buClr>
                <a:srgbClr val="ad0101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(will come later.. After the External probs.. They are happening simultaneously)  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Taiping Rebell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o: Hong Xiuqua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at: a rebellion against China’s gov’t where they wanted to create a “Kingdom of Heavenly Peace” where no one lived in poverty &amp; everyone shared in China’s wealth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ere: China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en: 1850s-1864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hy: They  won &amp; took over China for awhile = they feuded among themselves for power = Qing + British + French kicked them out &amp; the Qing retook power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4529160" y="-27000"/>
            <a:ext cx="46148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After the Taiping &amp; other rebellions, a lady came to power and ruled for the rest of China’s “Empire” or dynasty..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8:51:45Z</dcterms:created>
  <dc:creator>Windows User</dc:creator>
  <dc:description/>
  <dc:language>en-US</dc:language>
  <cp:lastModifiedBy>Windows User</cp:lastModifiedBy>
  <cp:lastPrinted>2012-03-08T18:54:08Z</cp:lastPrinted>
  <dcterms:modified xsi:type="dcterms:W3CDTF">2013-03-08T16:37:30Z</dcterms:modified>
  <cp:revision>27</cp:revision>
  <dc:subject/>
  <dc:title>China &amp; Japan</dc:title>
</cp:coreProperties>
</file>